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51D-64D0-4505-B46A-20A8B6AD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386-DD58-492F-B670-7683B0B0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26ABC-31F1-4231-BCC7-791A7AE1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F085E-EB48-4D4D-853B-F9395116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BCC9A-A33B-40FB-8562-572E89F7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8A518-B8C9-4019-9657-B2B88D6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40604-212D-484C-A094-CEBDCFD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D60EE-3093-486B-B33D-3F5E0B6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51BFA-ADE1-475B-A836-48DECA6D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A664C-2F12-4B7A-8E41-20BFC161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6456B-8B9A-4745-A3C8-BDE98AAD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230F5-EB74-484A-924B-11D8EBCD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71D-EBD2-411F-A662-63571DDA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D703E-457B-466F-A705-D7F3CCD6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12B75-2883-4A59-B7E3-3625A8E0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CD1F-A78E-4BC6-8D7A-29B31245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FDB97-CFBB-4C12-AC37-7F638ED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A3ADF-DD4C-4199-A8BE-E5380F7C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683BC-231E-462E-88AF-E19A64A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52C9D-618B-41F1-85B1-10068BCE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6D0BC-7884-464E-96FF-B72250D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97C05-01E5-4091-A8E4-9371B0F3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A9008-95A9-4E29-AE41-65885BA7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2B5-0B5D-404A-B9F9-8D55A904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F543B-015E-4119-BE2F-3E6EAD82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A5AB-F598-4FA5-9501-72379A9B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2889-9858-416D-8BCC-DCDC7AF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A5F6-F8FF-4171-9116-654028AC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EEB2-4C89-4FBF-BEF4-9DF0ED04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5F80-7635-40B6-A642-C891FBBD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F9CD-689A-4ECE-91BD-B3EA70AB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9E55-5ABB-4412-8982-68AE301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829-1B40-49EB-9E2E-39F49D6D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6C1A-3517-47CB-8A55-5469C105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FD40-DD32-41C2-92B8-795C585D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267D-F693-4FE4-B4B2-99259AC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46CF-A3F4-4B5C-86B1-41E04428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76F0-B539-4992-B567-613F1648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66C1-CC45-4E6A-B56A-D0FF9BF8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8CDD-54EC-40C2-AC62-A258A00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2B11-3C71-4B90-B8BD-79E54024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31DA-ACE6-4D1D-8E79-A526BF4E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7EB2-1CC1-4086-B966-64615B4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2FD-6285-4E8F-AB44-A410921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9C3C-7124-4AE7-B76E-5D4B99C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E072-FD43-474C-806D-B2DD2DFD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BEC2-1167-484F-82B2-96F415F3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A8B8-F660-43F9-A42E-1563589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EE7F-5EF7-4EED-B09B-2732CB2D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1AEA-BEBF-40FD-95E5-4DB677CF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31EC-E6C0-4D0B-A00D-F157FB06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8967F-F445-40A6-B173-4B8D982B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30DBC-5D55-4C59-866C-B6B4658A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1E4B8-C4AE-4126-AC33-0898E788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E2A-DCBF-4E3F-935F-3EF9113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B3B27-A6FF-42C1-B066-7F9AC8EC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B22FE-F256-48AF-B25A-61E21853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F604E-4AE3-4993-9336-B02D5E79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778DC-786A-4B6B-AE57-2411786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0E092-A20D-4753-A8C3-25C0D5C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E2C08-CF9E-48AE-BAA5-386B9CE5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A5FA5-BA87-4910-9B09-899C8CC8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29B1F-259F-4149-9251-471512C5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163D8-B561-49C0-94CE-DC9ECA9D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88E1-F801-446B-BA8F-01D5652D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5A1-FCAE-4EA0-8718-67EDC2F7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3408-A1C4-403C-AE14-203E5808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817F-08B8-46C8-AC86-C462D30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4DF3-9151-4970-ACBC-D6032835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1D2F-470A-4D98-93B3-C216FB7C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DE04-EDCF-4C8F-955C-23C44494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FDDA-9B63-455B-9824-D1A610F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83CD1-AE40-450D-8809-E141FB0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1D14-0A06-414A-A556-123EE5E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F4DA-2119-4627-928B-F6012966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4339D-E7E8-47DA-BA3A-4AD1AE8F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EB4-B6CC-49C1-8AC1-8F775A7F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EB5B-B9CD-4325-968B-0C7EE0F2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97A7E-CD1F-430B-941D-4874CF41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49037-8FFD-4094-A78C-6A43A76F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8B26-0BFD-4DAD-8B80-429D37A0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5095-3154-4E3F-93B0-B4A4A2AB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689C5-8687-473A-B8C2-FEFEA75C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58DB-D9E0-447C-9C29-EAC9C72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590BB-E018-4854-98DF-22FC647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F7450-3E8E-4EF0-83DE-1C7CE4C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CE80C-5923-40FF-BAC3-53723CC4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70F-7F8E-4C34-B328-E3B8803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DB91-66E8-416A-99E1-B2566FA9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7483-58C4-4667-A4D3-C3C7C11A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3CE5-A2F1-4217-BE4B-17B77E42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4079-3B43-4EB1-AA23-1A6E4399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B09E5-5FEE-4135-9354-67A35ABE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1932-BF2D-4558-B243-8DA0C73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EEECD-0FD6-499C-97FC-2B4F941F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19246-651F-4100-8B9E-D60C404D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6A2D-AEE0-4B5B-8E16-5460B3F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63080-72AD-4535-B9C0-9B70016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09D-1D01-48CD-A762-10AA8C5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43F6-A18A-439B-BC4F-44CD4B0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F6AF2-A777-4E13-9F04-F3933CD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3C20-3580-4B2E-BA18-46E22ADF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6179-C4F1-41C1-9229-41EAAF17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2A615-1B9F-490B-9908-5AE133AF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0699B-480A-4F66-A300-862163E8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569F7-91C8-4CCE-8E1E-46078044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EAE69-2744-45ED-BF17-E1B3121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EE583-7F83-4B66-8E9C-863CB724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5AD9F-0D29-496B-A3C3-35B79BE5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CD7-AEA5-43B9-9B4F-5C3B88BA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BB5BB-A2ED-464B-A600-439CB8B3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A9D9-A0C8-4470-A3C5-099A34C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819F3-DA9D-42B2-96A1-168BEFCD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A984-3276-4EB1-8768-72A7812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0CF2A-C572-4EC9-84D6-175F658A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38E1-4F59-4BBA-8ACF-86B3FDE1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3E7BF-4363-4F73-82D2-80146F7E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338F8-B6AE-4150-B757-1A68114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347CD-7BDE-493F-8EB8-6562F2E5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74883-B429-4F7C-86D6-554596E8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10F9-3576-4D6C-8591-652977F1C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5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5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5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9CE1-45BB-4FD3-9CF7-A43B1EE4CCF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2815-9527-44D5-8320-BB53C1193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4AD6-2B1A-416D-81ED-D494856B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BC93-E3F0-4797-ADE3-EA74E4D9A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6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6D0D-F011-45DF-9AB1-1440CC9698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7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41FB-A831-4024-AB5D-D9D5AD536F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EE60-800F-4ACE-9DF5-FD433A65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1EFC-0798-424C-8F88-27BEAC5A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7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7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8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484A-6170-4277-8350-F43B5E0F338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co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Ashley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ndangered spec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d ea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t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y wo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8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spe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0481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mun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fferent spec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pulations in 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biotic around 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iotic in 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ec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co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spe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5486400" y="443880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c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l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4:40:48Z</dcterms:created>
  <dc:creator>LCS_user</dc:creator>
  <dc:description/>
  <dc:language>en-US</dc:language>
  <cp:lastModifiedBy>LCS_user</cp:lastModifiedBy>
  <dcterms:modified xsi:type="dcterms:W3CDTF">2008-10-30T14:23:15Z</dcterms:modified>
  <cp:revision>7</cp:revision>
  <dc:subject/>
  <dc:title>ecosystems</dc:title>
</cp:coreProperties>
</file>